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9.xml.rels" ContentType="application/vnd.openxmlformats-package.relationships+xml"/>
  <Override PartName="/ppt/notesSlides/notesSlide10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680B-9A4F-4D8E-BC11-822C19BF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AAEC-FC93-40DF-B074-339379F787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C8C-0EA4-4845-82DF-4FBA0D7A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FBA-7C65-40B0-A17D-8F62B01F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B72-8FCD-4A6B-95C6-864BE69F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2E5-D0B6-425D-BCFA-4A371C4D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51C7-20B9-4058-B8D2-7E2AD4D4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E12E-5CD4-4187-BAAF-C1F2CFDD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A51E-FC33-4E51-9D13-1F3B5B63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AB33-3EF0-47D8-9C5E-8D99D940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F453-9DDC-4D3A-9EAB-AC68F865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8B5B-7569-40B6-91F4-FB29C192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7082-9B15-46E9-BA52-94AF2CA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B6D-B29C-4253-8DEE-868E2988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8DAF-FA72-4B19-AC13-96EE7DA2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7784-74BE-4F2E-98D6-54553FBF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73AF-B898-4B7E-AF0E-B0516D90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819F-A6EF-40D2-A5CB-80F54F35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27C1-B66A-477F-BE4B-6AC892FB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C7B-380E-4231-8DFD-C6EA8505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A41-0BE8-4032-8E00-B08888C9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891-4016-4966-8A12-3375AC3D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B25-7584-42D3-A06B-1DED4C28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27C-9D9E-426B-A83B-675BC988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2C2-0EC1-43C1-B387-DEE4E86B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DB9-F632-4F2C-B9A9-ACBA00F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3C7E-CB51-4DB0-A5BF-D36E8F861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8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8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41AA-EDFD-484C-9270-057D47A76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hyperlink" Target="http://www.quia.com/jg/1125971.html" TargetMode="External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Bad%20Dog,%20Badger!.htm" TargetMode="External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Bad%20Dog,%20Badger!.htm" TargetMode="External"/><Relationship Id="rId2" Type="http://schemas.openxmlformats.org/officeDocument/2006/relationships/hyperlink" Target="http://www.scottsboro.org/~flewis/SF%20Reading%20Street/spellmaster/Bad%20Dog,%20Dodger/jigword2.html" TargetMode="External"/><Relationship Id="rId3" Type="http://schemas.openxmlformats.org/officeDocument/2006/relationships/hyperlink" Target="http://www.scottsboro.org/~flewis/SF%20Reading%20Street/spellmaster/Bad%20Dog,%20Dodger/matchword2.html" TargetMode="External"/><Relationship Id="rId4" Type="http://schemas.openxmlformats.org/officeDocument/2006/relationships/hyperlink" Target="http://www.scottsboro.org/~flewis/SF%20Reading%20Street/spellmaster/Bad%20Dog,%20Dodger/speedword2.html" TargetMode="External"/><Relationship Id="rId5" Type="http://schemas.openxmlformats.org/officeDocument/2006/relationships/hyperlink" Target="http://www.scottsboro.org/~flewis/SF%20Reading%20Street/spellmaster/Bad%20Dog,%20Dodger/wordsearch2.html" TargetMode="External"/><Relationship Id="rId6" Type="http://schemas.openxmlformats.org/officeDocument/2006/relationships/hyperlink" Target="http://www.scottsboro.org/~flewis/SF%20Reading%20Street/spellmaster/Bad%20Dog,%20Dodger/wordweb.html" TargetMode="External"/><Relationship Id="rId7" Type="http://schemas.openxmlformats.org/officeDocument/2006/relationships/hyperlink" Target="http://www.spellingcity.com/index.php?option=com_spellcity&amp;task=viewList&amp;listId=825632" TargetMode="External"/><Relationship Id="rId8" Type="http://schemas.openxmlformats.org/officeDocument/2006/relationships/hyperlink" Target="http://www.spellingcity.com/index.php?option=com_spellcity&amp;task=viewList&amp;listId=825639" TargetMode="External"/><Relationship Id="rId9" Type="http://schemas.openxmlformats.org/officeDocument/2006/relationships/hyperlink" Target="http://www.scottsboro.org/~flewis/SF%20Reading%20Street/spellmaster/Bad%20Dog,%20Dodger!%20Spelling%20Words/speedword2.html" TargetMode="External"/><Relationship Id="rId10" Type="http://schemas.openxmlformats.org/officeDocument/2006/relationships/hyperlink" Target="http://www.scottsboro.org/~flewis/SF%20Reading%20Street/spellmaster/Bad%20Dog,%20Dodger!%20Spelling%20Words/wordweb.html" TargetMode="External"/><Relationship Id="rId11" Type="http://schemas.openxmlformats.org/officeDocument/2006/relationships/hyperlink" Target="http://www.quia.com/hm/323162.html" TargetMode="External"/><Relationship Id="rId12" Type="http://schemas.openxmlformats.org/officeDocument/2006/relationships/hyperlink" Target="http://www.spellingcity.com/index.php?option=com_spellcity&amp;Itemid=122&amp;task=viewList&amp;listId=354279" TargetMode="External"/><Relationship Id="rId13" Type="http://schemas.openxmlformats.org/officeDocument/2006/relationships/hyperlink" Target="http://www.spellingcity.com/index.php?option=com_spellcity&amp;task=viewList&amp;listId=825641" TargetMode="External"/><Relationship Id="rId14" Type="http://schemas.openxmlformats.org/officeDocument/2006/relationships/hyperlink" Target="http://www.spellingcity.com/index.php?option=com_spellcity&amp;task=viewList&amp;listId=825641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slide" Target="slide80.xml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slide" Target="slide82.xml"/><Relationship Id="rId6" Type="http://schemas.openxmlformats.org/officeDocument/2006/relationships/slide" Target="slide83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2.xml"/><Relationship Id="rId3" Type="http://schemas.openxmlformats.org/officeDocument/2006/relationships/slide" Target="slide90.xml"/><Relationship Id="rId4" Type="http://schemas.openxmlformats.org/officeDocument/2006/relationships/slide" Target="slide131.xml"/><Relationship Id="rId5" Type="http://schemas.openxmlformats.org/officeDocument/2006/relationships/slide" Target="slide14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themoderatevoice.com/wordpress-engine/files/2009-january/fairfax_pool_bleachers.jpg&amp;imgrefurl=http://themoderatevoice.com/category/politics/negative-campaigning/demonization/&amp;usg=__BGt_1-1_b4jXYBsOC1dicjw8Vt8=&amp;h=549&amp;w=750&amp;sz=106&amp;hl=en&amp;start=2&amp;tbnid=JtFnYfMxSRz6nM:&amp;tbnh=103&amp;tbnw=141&amp;prev=/images?q=bleachers&amp;hl=en&amp;rlz=1T4GGLR_enUS263US266&amp;sa=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eteamz.com/titan/images/Titans-Bleachers-HomeSide5-17-07.JPG&amp;imgrefurl=http://www.eteamz.com/titan/index.cfm?showdonate=1&amp;usg=__dIMBPEGOKqg1OCydjdWJieWIQRY=&amp;h=1920&amp;w=2576&amp;sz=1265&amp;hl=en&amp;start=4&amp;tbnid=Ic1l-qR0-XsYOM:&amp;tbnh=112&amp;tbnw=150&amp;prev=/images?q=bleachers&amp;hl=en&amp;rlz=1T4GGLR_enUS263US266&amp;sa=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visitvictoria.com/content/2004/aug/spectators%2520at%2520a%2520sporting%2520event_30692_u_280.jpg&amp;imgrefurl=http://www.visitvictoria.com/displayobject.cfm/objectid.1512C788-E1E6-4449-89AFC9E33E3F84FE/&amp;usg=__fhvA-O5LGX6xW4UmxM6oszE-X0U=&amp;h=228&amp;w=280&amp;sz=35&amp;hl=en&amp;start=4&amp;tbnid=SmNOW1sLsE7ufM:&amp;tbnh=93&amp;tbnw=114&amp;prev=/images?q=spectators&amp;hl=en&amp;rlz=1T4GGLR_enUS263US266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3cushion.com/Other%2520Tournaments/Pics/spectators.jpg&amp;imgrefurl=http://www.3cushion.com/Other%2520Tournaments/copaelitte2004.htm&amp;usg=__9OxqmaHPiU1OQLPjGJ0KgYpfaJ4=&amp;h=300&amp;w=400&amp;sz=60&amp;hl=en&amp;start=18&amp;tbnid=9FzxX42ISYPACM:&amp;tbnh=93&amp;tbnw=124&amp;prev=/images?q=spectators&amp;hl=en&amp;rlz=1T4GGLR_enUS263US266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hyperlink" Target="http://images.google.com/imgres?imgurl=http://www.jethawks.com/images/tickets/dugout-teams1.jpg&amp;imgrefurl=http://www.jethawks.com/tickets/dugout-teams/&amp;usg=__npidnbrZL_z6UkwMJDe3x5FZuKk=&amp;h=287&amp;w=408&amp;sz=19&amp;hl=en&amp;start=5&amp;tbnid=gBEACic2Q5rltM:&amp;tbnh=88&amp;tbnw=125&amp;prev=/images?q=dugout&amp;hl=en&amp;rlz=1T4GGLR_enUS263US266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jdland.com/dc/images/other/stadium-interior-dugout-200802-1.jpg&amp;imgrefurl=http://www.jdland.com/dc/stadium.cfm?tab=no3&amp;usg=__ecOvhOkfKhzMpPSsnNDmDgiDLzs=&amp;h=322&amp;w=600&amp;sz=106&amp;hl=en&amp;start=12&amp;tbnid=Jo4K68556jYJKM:&amp;tbnh=72&amp;tbnw=135&amp;prev=/images?q=dugout&amp;hl=en&amp;rlz=1T4GGLR_enUS263US266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09200"/>
            <a:ext cx="9144000" cy="40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How can we be responsible family me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8" descr="Bad Dog, Dodg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514600"/>
            <a:ext cx="3111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24382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e know what the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wor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responsible means. It means to do what you're supposed to do. How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aseball team gets together to work on playing better, or a baseball team meets with another baseball team to play a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girl handed an apple to her sister or a girl took her sister’s apple away from 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 and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aby is crushing a blanket with her teeth or a baby is holding a blanket while she slee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oy ran after his hat as it blew away in the wind or a boy threw his hat into the ai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getting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getting sent to your room or getting a box of can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a dog moved his tail back and forth or a dog ran after his tail to try to catc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on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a girl who just climbed out of a pool or a girl who hasn’t gone swimming y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li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s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use for thei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li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s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use for their hair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7400" y="358560"/>
            <a:ext cx="73245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c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c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member the title of this story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ad Dog, Dod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want to understand why Dodger is considered a bad dog, you can classify, or group, the things that Dodger does that make people think he is a bad do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example, he knocks over the trash, jumps into the bathtub, and chews Sam’s baseball ca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ad Dog, Dodger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t is also about base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k of all the words in the story that can be classified, or grouped, under the wor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aseb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921996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ine said? “Training for dogs.”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sign said, “Training for dogs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hat should i teach my do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ff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What should I teach my do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t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 and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we will read about how to train a pup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behavi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 – hav- 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people and animals act or behave is called the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hildren had goo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uring the assemb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’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mproved after we trained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enjoy watching the birds’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t the feed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et behaving badly or doing something impressiv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37160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training a dog. Trained dogs are always on their best behavior. They are obedient, and they cooperate. How do you think dogs are trained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37160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training a dog. Trained dogs are always on their best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They are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they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How do you think dogs are trained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day we will learn abou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tell a Movie or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weekly helper came to our class for the whol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had enough meat to make the biggest, fattest sandwi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ok above the shelf at the lovely gift for my teac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hardest word to read since it is longer than m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tory began, “Long ago, there was a graceful dance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ctor seems busiest toward the end of th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ope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 – op – er - 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people or animals work together to accomplish a goal, they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hildren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paint a mural on the w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ith its owner to learn new tr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build the ho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cat chewwed my so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My cat chewed my sock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 wish me knew why?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I wish I knew wh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t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peaking and Listening: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tell a Movie or a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e the grou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 loudly enough to be he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ing Connections: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read a story about how to train a puppy.  Tomorrow we will hear about more ways to teach a puppy to beh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uppy who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rns to obe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id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914400" y="2286000"/>
          <a:ext cx="6629400" cy="418788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ing responsible by teaching dogs how to follow the rules. We must follow rules, too.  In what other ways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171360"/>
            <a:ext cx="84582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d you see the wren perch on that lim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will wrap my hurt knee with t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drew the wrong design on my 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y new shirt had a wrinkle in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obedi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 - be – di – 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a person or an animal is willing to do what they are told to do, he or she i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ildren did what their parents asked them to 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 wa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n he stopped jumping on peo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hat water is doing when it comes out in dro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hat water is doing when it comes out in drops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“took quickl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“took quickly.”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“took quickly.”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doing this before you swallow f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“took quickly.”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doing this before you swallow food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can read this word.  What sound do you hear at the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do you know about the beginning sound of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s sil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day we’ll learn other words that have silent let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83908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dog listen to M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My dog listens to 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n I and Dad comb his h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Then Dad and I comb his hai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66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ncyclope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s help people find information about many top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s contain articles, which are arranged in alphabetical order by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dictionaries, encyclopedias have guide words and e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ncyclope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d encyclopedias often contain many different books, called volu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volumes are numbered and have letters o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oose the volume that your topic would be found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the guide words to find your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Wee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i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et that is sill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9900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Vocabulary Practice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Vocabulary &amp; Amazing Words</a:t>
            </a: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Apt Plus Videos  </a:t>
            </a:r>
            <a:br>
              <a:rPr sz="4400"/>
            </a:b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(password required)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ff Happens with Bill Nye: Pets (20:1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l People, Real Math: Choosing a Pet (K-2) (13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About Animals: Mammals (Revised) (10:0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Apt Plus Videos  </a:t>
            </a:r>
            <a:br>
              <a:rPr sz="4400"/>
            </a:br>
            <a:r>
              <a:rPr b="1" lang="en-US" sz="2400" spc="-1" strike="noStrike">
                <a:solidFill>
                  <a:srgbClr val="ff6699"/>
                </a:solidFill>
                <a:latin typeface="Verdana"/>
              </a:rPr>
              <a:t>(password required)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gus and the Ducks (14:0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ficer Buckle and Gloria (12:1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I Grow Up I Want To Be a Veterinarian (15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arry the Dirty Dog (09:08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809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a nu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letter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 nurse stands for the sound /n/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lett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an also stand for /n/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 o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Sound-Spelling Card"/>
          <p:cNvPicPr/>
          <p:nvPr/>
        </p:nvPicPr>
        <p:blipFill>
          <a:blip r:embed="rId1"/>
          <a:stretch/>
        </p:blipFill>
        <p:spPr>
          <a:xfrm>
            <a:off x="685800" y="1981080"/>
            <a:ext cx="2619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7335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a mountain.  It begins with the /m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a word ends with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the b is sil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6" descr="Sound-Spelling Card"/>
          <p:cNvPicPr/>
          <p:nvPr/>
        </p:nvPicPr>
        <p:blipFill>
          <a:blip r:embed="rId1"/>
          <a:stretch/>
        </p:blipFill>
        <p:spPr>
          <a:xfrm>
            <a:off x="685800" y="19810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a rocket. It begins with an /r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a word begins with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the w is sil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Sound-Spelling Card"/>
          <p:cNvPicPr/>
          <p:nvPr/>
        </p:nvPicPr>
        <p:blipFill>
          <a:blip r:embed="rId1"/>
          <a:stretch/>
        </p:blipFill>
        <p:spPr>
          <a:xfrm>
            <a:off x="762120" y="1981080"/>
            <a:ext cx="2523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66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5920" y="2589120"/>
            <a:ext cx="6394680" cy="25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m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n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you know about reading these wor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letter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k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w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g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can stand for the consonant sound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n, r, n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71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nk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n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l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ea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7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8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304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124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u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n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n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lot and Them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membe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e Dark N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happened in the st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ell what you learned about Jonath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might have happened if Jonathan had not helped the ca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lot and The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happens in a story’s beginning, middle, and ending is called the pl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characters feel can affect how they act, and their actions make up the pl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theme of a story is the story’s “big idea,” or what we learn from the st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use what we already know to draw conclusions about the the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71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rong date is on the sig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wrong date is on the sig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lam scared the wren awa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lamb scared the wren awa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lways write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lways wanted a do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y parents gave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 do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en you talk about yourself and another person, name yourself l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dog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sing toge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ople are surprised when they hear the dog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____ 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___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___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ybe Pepper and __ can sing for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ybe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can sing for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95480" y="1828800"/>
          <a:ext cx="3353040" cy="490680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9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b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w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gg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pp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eac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cta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ug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, wr, gn,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the class will read about a pet that needs to learn how to follow r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2952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st ways people can cooperate with each other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447920" y="25146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Sam and his dog, Dodger.  Sam must teach Dodger what’s right and what’s wrong.  How do we know right from wro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47920" y="25146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Sam and his dog, Dodger.  Sam must teach Dodger what’s right and what’s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wro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How do we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know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right from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wro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ings –ed and –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8840" y="358560"/>
            <a:ext cx="73216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mpan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 – pan –  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s a person or animal who spends time with you, as a fri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y grandfather lives alone but has a little dog for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toddler ha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o like to play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kitten is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the older do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nsi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 – sid - 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something, you think about it very carefully before making a deci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llowing me to get a pet c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had to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ther I wanted to take piano lessons or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reprim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 – ri - m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get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that means you get a talking to, a warning, or a scolding for doing something w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 got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being late for school so many ti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gave me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walking across the carpet with muddy sh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ight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can read this word because you know how to read words with silent consonants that stand for the /n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sound do the letters kn stand for in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’s the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you come to a new word, look at the letters from left to right and think about the consonant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m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g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eepa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ick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na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stb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gnp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ock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71360"/>
            <a:ext cx="868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br>
              <a:rPr sz="40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ick out the words with silent consonants in “I’m Just a New Puppy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52320" y="175212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es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ickkn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eec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05740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ug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wa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o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stwa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stwa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climb the tree, you can see a wren in a n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rong to go inside a house before you kno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will sign my name on the card and then wrap the g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write about a lamb and a gnat with a c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to repeat an action in order to imp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took hold of something sudde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grinding something between your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ran after some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special gift, ofte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moved from side to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liquid falling slowly, drop by dr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 action="ppaction://hlinksldjump"/>
              </a:rPr>
              <a:t>bleachers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 action="ppaction://hlinksldjump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– raised seats on which people sit to watch sports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 action="ppaction://hlinksldjump"/>
              </a:rPr>
              <a:t>specta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people who watch an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 action="ppaction://hlinksldjump"/>
              </a:rPr>
              <a:t>dug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shelter where baseball players sit when they’re waiting to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 action="ppaction://hlinksldjump"/>
              </a:rPr>
              <a:t>(next sl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can we be responsible family me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bleach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7" descr="fairfax_pool_bleach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514600"/>
            <a:ext cx="3886200" cy="2838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Titans-Bleachers-HomeSide5-17-0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2514600"/>
            <a:ext cx="37148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spect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spectators%2520at%2520a%2520sporting%2520event_30692_u_2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209680"/>
            <a:ext cx="3581280" cy="2922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spectator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209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dugo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6" descr="dugout-teams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362320"/>
            <a:ext cx="3733920" cy="2628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stadium-interior-dugout-200802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590920"/>
            <a:ext cx="402912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3047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ac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erybo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bb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hew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ha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agg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rip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r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imes we can get the meaning from word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may understand the base word and the prefix or the base word and suff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look in a dictionary or glo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look for endings in the unknown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day we will learn more about the endings –</a:t>
            </a:r>
            <a:r>
              <a:rPr b="0" i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–</a:t>
            </a:r>
            <a:r>
              <a:rPr b="0" i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28240" y="76212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he will com the lambs woo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She will comb the lamb’s wool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nat bit the ren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The gnat bit the wre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lways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me and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you will hear about a girl who learns to be respons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7920" y="251460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time when you saw a dog doing something funn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3880" y="24382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e know what the word responsible means. It means to do what you're supposed to do. How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2133720"/>
          <a:ext cx="6781680" cy="4187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a dog named Zooks.  Eileen wanted a puppy more than anything. But her mom expected her to do some petsitting first.  What kind of animal do you love bes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219320" y="2133720"/>
          <a:ext cx="6781680" cy="4187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a dog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nam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Zooks.  Eileen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want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 puppy more than anything. But her mom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expect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her to do some </a:t>
                      </a:r>
                      <a:r>
                        <a:rPr b="1" i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petsitt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irst.  What kind of animal do you love bes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fixe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assify/Categ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8840" y="358560"/>
            <a:ext cx="73216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nfi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 –fi –d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animals or people are sure about things or are certain they have the ability to do something, then they will b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 themse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te felt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 would do well on the math t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patted the dog’s head so he would fee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 was behaving prope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proper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 – er – ly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something is done in a correct way, it is don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learned to form all my cursive lett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said we needed to behav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n we visited her fri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rained dog will not tug on its lea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23:04Z</dcterms:modified>
  <cp:revision>29</cp:revision>
  <dc:subject/>
  <dc:title>Slide 1</dc:title>
</cp:coreProperties>
</file>